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849-B021-4896-9CD3-50963A0A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A4C-1A19-4A1C-AD6E-286C0917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BC1-C303-4EB9-AAEB-CC1599C3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44D-B7F6-439E-91BC-D568921E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884-8F7B-4E33-A01D-3DDDF28A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E70-C1F5-4F23-BDED-0685BD46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7AE-E97F-4B39-BAF0-9508DC7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F45-D586-45C4-90F4-56C4D365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44E-2FB2-4BF1-9C3A-50293DD8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4A4-3FAE-46FC-8C18-F071175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A81-DB91-4B82-8761-38C69EE9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AEA-D52D-40A4-B365-C54ADF72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59F0-CE35-44C6-84E3-16AD09D08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xpedia.com/" TargetMode="External"/><Relationship Id="rId2" Type="http://schemas.openxmlformats.org/officeDocument/2006/relationships/hyperlink" Target="http://www.hotels.com/" TargetMode="External"/><Relationship Id="rId3" Type="http://schemas.openxmlformats.org/officeDocument/2006/relationships/hyperlink" Target="http://www.tripadvisor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he Beautiful Beaches of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Nassau, Bah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2590920" cy="1917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448000" cy="235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3581640" cy="237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girl on nassau beach"/>
          <p:cNvPicPr/>
          <p:nvPr/>
        </p:nvPicPr>
        <p:blipFill>
          <a:blip r:embed="rId4"/>
          <a:stretch/>
        </p:blipFill>
        <p:spPr>
          <a:xfrm>
            <a:off x="4648320" y="4267080"/>
            <a:ext cx="3581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ontac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f you have any questions or concerns call: 256-783-3433 or e-mail me at ktshoe1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5812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74674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www.expedi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risten ITC"/>
                <a:hlinkClick r:id="rId2"/>
              </a:rPr>
              <a:t>www.hote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risten ITC"/>
                <a:hlinkClick r:id="rId3"/>
              </a:rPr>
              <a:t>www.tripadviso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Kristen ITC"/>
              </a:rPr>
              <a:t>Air Fligh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epart from Huntsville, AL: 4/29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t: 6:20am for: $427 per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rrive at Nassau, Bahamas: 4/29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t: 11:58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epart from Nassau, Bahamas: 5/7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t: 7:40am for: $430 per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rrive at Huntsville, AL: 5/7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t: 11:11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Kristen ITC"/>
              </a:rPr>
              <a:t>Hote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Only One Ocean Cl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Air Conditi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24hrs Front Desk And Concie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5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Airport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Breakfast Buff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Coffee 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Complimentary High-Speed Internet Ac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Dmx Satellite Radio Chann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Excurs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Go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Land Spo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Local C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533520"/>
            <a:ext cx="2362320" cy="609480"/>
          </a:xfrm>
          <a:prstGeom prst="rect">
            <a:avLst/>
          </a:prstGeom>
          <a:solidFill>
            <a:srgbClr val="b416d4"/>
          </a:solidFill>
          <a:ln w="9360">
            <a:solidFill>
              <a:srgbClr val="b41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73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14428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2057400" cy="149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90920" y="3886200"/>
            <a:ext cx="170496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800600" y="4343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858000" y="4495680"/>
            <a:ext cx="1905120" cy="139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6324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$785 1 adult nightly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he Reef Atlan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Babysit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Business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Fitness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Internet Access Available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Par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P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Restaurant On-s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Room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Check-in time is 3 P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Check-out time is 11 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Minimum check-in age 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Pets not allowed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457200"/>
            <a:ext cx="2362320" cy="609480"/>
          </a:xfrm>
          <a:prstGeom prst="rect">
            <a:avLst/>
          </a:prstGeom>
          <a:solidFill>
            <a:srgbClr val="b416d4"/>
          </a:solidFill>
          <a:ln w="9360">
            <a:solidFill>
              <a:srgbClr val="b41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457200"/>
            <a:ext cx="228600" cy="457200"/>
          </a:xfrm>
          <a:prstGeom prst="rect">
            <a:avLst/>
          </a:prstGeom>
          <a:solidFill>
            <a:srgbClr val="b416d4"/>
          </a:solidFill>
          <a:ln w="9360">
            <a:solidFill>
              <a:srgbClr val="b41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2210040" cy="1471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1454040" cy="1971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62520" y="3657600"/>
            <a:ext cx="197172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3886200"/>
            <a:ext cx="2124000" cy="141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33520" y="5105520"/>
            <a:ext cx="2276280" cy="1515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657600" y="5257800"/>
            <a:ext cx="1819440" cy="1211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867280" y="59436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$458.33 1 adult nightly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Kristen ITC"/>
              </a:rPr>
              <a:t>Attract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Blue Lagoon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lphin Encounters, located on Blue Lagoon Island, is one of the most exciting and intriguing tours available. Guests who purchase either a dolphin encounter/dolphin swim or sea lion encounter will  receive </a:t>
            </a: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FREE BEACH ACCESS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to the Lagoon Beach and facilities. Guests can purchase Lunch and Drinks.  (Lunch Package cost's $12) or get the Add on package which includes lunch and use of float mats, noodles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1944720" cy="2809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Blue Lagoon Island: Welcome/Goodbye Sign at the entrance"/>
          <p:cNvPicPr/>
          <p:nvPr/>
        </p:nvPicPr>
        <p:blipFill>
          <a:blip r:embed="rId3"/>
          <a:srcRect l="6363" t="1459" r="10727" b="65544"/>
          <a:stretch/>
        </p:blipFill>
        <p:spPr>
          <a:xfrm>
            <a:off x="6019920" y="304920"/>
            <a:ext cx="28954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Dive Aba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is the ultimate diving experience. While exploring the reefs of Blue Lagoon Island you also learn about different species of fish and their habit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Dive Abaco!: Under a ledge"/>
          <p:cNvPicPr/>
          <p:nvPr/>
        </p:nvPicPr>
        <p:blipFill>
          <a:blip r:embed="rId1"/>
          <a:stretch/>
        </p:blipFill>
        <p:spPr>
          <a:xfrm>
            <a:off x="5257800" y="1523880"/>
            <a:ext cx="284796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Dive Abaco!: Passages through the coral reef"/>
          <p:cNvPicPr/>
          <p:nvPr/>
        </p:nvPicPr>
        <p:blipFill>
          <a:blip r:embed="rId2"/>
          <a:stretch/>
        </p:blipFill>
        <p:spPr>
          <a:xfrm>
            <a:off x="5257800" y="3886200"/>
            <a:ext cx="28195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21:29:00Z</dcterms:created>
  <dc:creator>Katy</dc:creator>
  <dc:description/>
  <dc:language>en-US</dc:language>
  <cp:lastModifiedBy>Katy</cp:lastModifiedBy>
  <dcterms:modified xsi:type="dcterms:W3CDTF">2009-04-29T01:47:29Z</dcterms:modified>
  <cp:revision>3</cp:revision>
  <dc:subject/>
  <dc:title>The Beautiful Beaches of: Nassau, Bahamas</dc:title>
</cp:coreProperties>
</file>